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1440" y="-5040"/>
            <a:ext cx="3101760" cy="4762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1"/>
          </p:nvPr>
        </p:nvSpPr>
        <p:spPr>
          <a:xfrm>
            <a:off x="4049280" y="-5040"/>
            <a:ext cx="3102120" cy="4762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2"/>
          </p:nvPr>
        </p:nvSpPr>
        <p:spPr>
          <a:xfrm>
            <a:off x="-1440" y="8975880"/>
            <a:ext cx="3101760" cy="4759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3"/>
          </p:nvPr>
        </p:nvSpPr>
        <p:spPr>
          <a:xfrm>
            <a:off x="404928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FD5A73BC-4C5C-4E6E-A7A3-37635DB58DD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2935440" y="8997840"/>
            <a:ext cx="12776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39536b"/>
                </a:solidFill>
                <a:latin typeface="Arial"/>
              </a:rPr>
              <a:t>Page </a:t>
            </a:r>
            <a:fld id="{BBFBDF23-A91C-4BA5-9A38-1768A88A9DE6}" type="slidenum">
              <a:rPr b="0" lang="en-US" sz="12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Img"/>
          </p:nvPr>
        </p:nvSpPr>
        <p:spPr>
          <a:xfrm>
            <a:off x="1222200" y="717120"/>
            <a:ext cx="4703760" cy="3527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8600" bIns="486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8600" bIns="486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ings to add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eed to bring in the PSP comparison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ry contrasting the tsp and psp by looking at the process phases. Psp planning compares to tsp launch only it’s for a team, not an individual. Work phases are not so similar but the concepts relate. A tsp plan goes for just a phase, psp encompasses a module. Psp plans are not used to make commitments, tsp launches include management agreement on the plan. Continue with these comparison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oth have scripts, forms,standards, measures et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ngineers plan and track work including qualit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ngineers track time on task, defects, size, and schedule statu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rms are similar plan summary – sump, task, schedule, et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verall, need to bring this into the lecture so it relate to their knowledge of psp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eed more launch coach skills/characteristic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19248BB4-6F07-4593-8965-6839A5DB5035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184F1407-7E3D-4E78-9A34-6C8B353B7657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6E612861-22B9-402E-B5DC-7FCF7EA4E0A7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52D940A3-E1B8-4A4E-A56B-1EEED6DCDAA8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E72971C1-3A76-48C0-BD08-A4537300DAD1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EE2A2E25-9E87-46BC-B4E9-B5D116C52A70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4F7DDE91-63E3-477C-93F3-1D1F4C8B8B98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33BE8634-5DF9-495F-810A-B5580E8EDE2C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5072E495-E6D2-4CD4-87A7-0DB433AC9EE1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5DC67117-E095-4ED5-A3EA-06251E43D650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4E7800CE-59FD-4341-BFB9-C2C01A611353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513387C1-7359-483A-9965-3D38DFE4221F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BEFBA77B-8975-42AA-B7DF-EB8388B9D5AB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3080" indent="-343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343080" indent="-34308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343080" indent="-34308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0800" y="6566040"/>
            <a:ext cx="230724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2013 by Carnegie Mellon Universit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3913560" y="6567480"/>
            <a:ext cx="11548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September 2013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621504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TSP Coach Training – Module 4 - </a:t>
            </a:r>
            <a:fld id="{CC9D0A4E-D07A-4314-91CC-13D3F6CF927D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5" name="Picture 7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6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1058760" y="4967280"/>
            <a:ext cx="7313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his material is approved for public release. Distribution is limited by the Software Engineering Institute to attendees.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2013 by Carnegie Mellon University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5" name="Line 4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3910320" y="6567480"/>
            <a:ext cx="11548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September 2013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938880" y="73188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ittsburgh, PA 15213-3890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48" name="Picture 8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9"/>
          <p:cNvSpPr/>
          <p:nvPr/>
        </p:nvSpPr>
        <p:spPr>
          <a:xfrm>
            <a:off x="621504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TSP Coach Training – Module 4 - </a:t>
            </a:r>
            <a:fld id="{EC1EC08A-642A-4ADB-A885-528B77A0EE81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3080" indent="-343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343080" indent="-34308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343080" indent="-34308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1049400" y="1593720"/>
            <a:ext cx="7872480" cy="23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0000"/>
              </a:lnSpc>
              <a:buClr>
                <a:srgbClr val="9c2108"/>
              </a:buClr>
              <a:buFont typeface="Century Schoolbook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1049400" y="1009800"/>
            <a:ext cx="7872480" cy="23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200" spc="-1" strike="noStrike">
                <a:solidFill>
                  <a:srgbClr val="9c2108"/>
                </a:solidFill>
                <a:latin typeface="Century Schoolbook"/>
              </a:rPr>
              <a:t>TSP Coach Training</a:t>
            </a:r>
            <a:endParaRPr b="0" lang="en-US" sz="3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4000" spc="-1" strike="noStrike">
                <a:solidFill>
                  <a:srgbClr val="9c2108"/>
                </a:solidFill>
                <a:latin typeface="Century Schoolbook"/>
              </a:rPr>
              <a:t>Post-Launch Coaching</a:t>
            </a: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aching Role Manager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s you talk with individual team members weekly, discuss their assigned rol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s the team member familiar with his/her role responsibilities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ave the role responsibilities and practices been tailored to best suit the project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s the team member thinking proactively about the responsibilities of his/her role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oes the team member have specific role tasks in his/her plan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r goal here is to get the team members to take responsibility and to be proactive about their rol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Working with the Team Leader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In order to be an effective coach to the team, you need a  trusting and cooperative mutual relationship with the team leader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Some ways to create that relationship are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Review your coaching plan with the team leader before reviewing it with the team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Keep the team leader informed of your actions, don’t initiate something with the team without discussing it with the team leader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If the team leader disagrees with a proposed action, resolve the issue with the team leader or escalate the issue to senior management for resolution before taking any action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Don’t go to the team leader’s management with any issue concerning the team or team leader without first discussing your plans with the team leader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06560" y="890280"/>
            <a:ext cx="789768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800" spc="-1" strike="noStrike">
                <a:solidFill>
                  <a:srgbClr val="9c2108"/>
                </a:solidFill>
                <a:latin typeface="Arial"/>
              </a:rPr>
              <a:t>Working with the Team Leader (continued)</a:t>
            </a:r>
            <a:endParaRPr b="1" lang="en-US" sz="28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r objective is to guide the team leader toward a coaching style of leadership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aching the team leader must be a top priority for you since the team leader’s performance is critical to the team’s succes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aching Pla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aching pla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epare before or during launch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view with the team in meeting 8 or LAUP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35880" indent="-3358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35880" indent="-3358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ighligh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ntact information on coach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lternate coach to contac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eek-by-week specific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78240" indent="-22248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articipate in team meetings for month or tw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78240" indent="-22248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eet with team members to provide assistanc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78240" indent="-22248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ttend first team inspec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78240" indent="-22248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view planning manager’s initial data consolida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78240" indent="-22248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view team and individual data weekl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78240" indent="-22248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articipate in first management review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essages to Remember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 should create a coaching plan for each team you launch and review it with the team during the launch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 the first few weeks after the launch, you will need to spend considerable time with the team to get them started righ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nce the team learns the basics, you can cut back on the time you spend with the team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Outline: Running the Projec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017360" y="1496520"/>
            <a:ext cx="8126280" cy="48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TSP roles:  getting roles to be successful on a team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Tracking and reporting:  collecting data, the weekly team meeting, reporting to management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Maintaining the baseline plan:  keeping the team commitment, evaluating status, adjusting plans when necessary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Maintaining a quality focus:  responsibilities for quality, TSP quality methods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Coaching the team:  areas where the coach helps TSP discipline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Coaching the team leader:  handling problems with a TSP team leader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Post-launch Coaching:  post-launch coaching strategy and plan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00" name="AutoShape 2052"/>
          <p:cNvSpPr/>
          <p:nvPr/>
        </p:nvSpPr>
        <p:spPr>
          <a:xfrm>
            <a:off x="412920" y="5334120"/>
            <a:ext cx="326880" cy="287280"/>
          </a:xfrm>
          <a:prstGeom prst="rightArrow">
            <a:avLst>
              <a:gd name="adj1" fmla="val 50000"/>
              <a:gd name="adj2" fmla="val 28446"/>
            </a:avLst>
          </a:prstGeom>
          <a:solidFill>
            <a:srgbClr val="39536b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Lecture Overview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ost-launch briefin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eekly team meetin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spec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dividual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ol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am leade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aching pla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eam Coaching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ams need coaching after the launch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re are a lot of new thing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orking as a self-directed team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llowing a detailed proce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ing the TSP too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re are no detailed instructions with TSP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initial coaching will take a lot of time, but it should quickly abate once the team understands the proces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coaching plan should be developed and reviewed with the tea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ost-Launch Briefing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post-launch briefing should be held at the end of the launch to familiarize new teams with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SP support too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weekly meetin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am inspec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briefing takes a couple of hou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Weekly Team Meeting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 the first month or two, attend the team’s weekly meeting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r initial objectives are t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ke sure the team is holding weekly meeting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verify the team is following the meeting process, has an agenda, and a meeting repor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verify the team is gathering their data and properly consolidating i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Weekly Team Meeting (continued)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nce the team is meeting the initial objectives, make sur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eam members are following their plans or make timely plan changes to reflect what they are doing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eam is accurately assessing and reporting its statu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eam is tracking key risk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role managers are providing appropriate team suppor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nce the team’s weekly meetings are being properly conduct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 need not attend every on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ccasionally drop in to ensure  things are going o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aching Inspection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17360" y="1547640"/>
            <a:ext cx="7413480" cy="47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eam should do inspections on all their work produc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ocumen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d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cedur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duct pla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tc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ttend the first team inspect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r objectives are to make sur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eam is prepared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re is a moderato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eam follows the inspection process (Script INS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aching Individual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 the first few weeks after the initial launch, meet with each team member at least once each wee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view their plan and data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s their plan working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re they maintaining their plan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re they gathering and recording their data properly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re they looking at their data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iscuss how things are going and what problems they are having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vide general guidance and mentoring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15:45:23Z</dcterms:created>
  <dc:creator>Stacy Mitchell</dc:creator>
  <dc:description/>
  <cp:keywords/>
  <dc:language>en-US</dc:language>
  <cp:lastModifiedBy>wrn_loc_adm</cp:lastModifiedBy>
  <cp:lastPrinted>2000-12-21T16:04:54Z</cp:lastPrinted>
  <dcterms:modified xsi:type="dcterms:W3CDTF">2018-09-06T01:11:45Z</dcterms:modified>
  <cp:revision>207</cp:revision>
  <dc:subject/>
  <dc:title>No Slide Title</dc:title>
</cp:coreProperties>
</file>